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D87-27B0-4299-A95A-7A8DE61D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1F2-1AA0-46FD-80C4-895C4E0C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50C-537E-4C25-9EE8-72B791AC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535-6BB8-4DB6-86AE-32713DE1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F3C5-3CE1-4B09-8AD7-DA01E1C5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F5AC-C013-463D-95E6-364A39B6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0CFD-36C0-4EDA-ACC3-C1B898A2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E4A1-4ECF-43D0-BA7E-B45A6C3B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A52C-4505-41E9-875B-B4910AB6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9F09-DBC7-4987-A97C-CC9D0A9A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97CE-8197-42D9-8C94-D95865B7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183-B992-4ABE-B71F-CC9DC2FA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DD2A-E4FD-4E1C-97BE-7521CA8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53DD-3C2D-42DD-8C50-89927489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9C65-D3BD-4BB5-A7DB-33CE25CB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37AE-6F03-44AE-A0AD-055F420F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7BA8-16A8-429C-A559-3D4A81DA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447-0E25-4FD7-BBB2-AD2A4E24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FCD-C7E6-4F4B-A00E-648B491F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9E4-F3DF-4B7B-A08B-3ED5443F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AA2-473B-4A0F-A78E-295F32E7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CE0-2D12-477A-BD52-B3BFF1A1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486-1901-4A2F-93D5-BD822CDE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099-F5C0-471D-BF94-EFC5D12C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EA6A-C880-4CC0-ABD2-F4F91768210D}" type="slidenum">
              <a:rPr b="0" lang="el-G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03FB-BF43-4BB2-8FA3-815AEECA72EA}" type="slidenum">
              <a:rPr b="0" lang="el-G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Δοκιμαστική παρουσίαση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ια 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kim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Κίνηση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Κίνηση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Κίνηση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Κίνηση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Κίνησ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23:10Z</dcterms:created>
  <dc:creator>.</dc:creator>
  <dc:description/>
  <dc:language>en-US</dc:language>
  <cp:lastModifiedBy>.</cp:lastModifiedBy>
  <dcterms:modified xsi:type="dcterms:W3CDTF">2011-05-30T06:25:16Z</dcterms:modified>
  <cp:revision>2</cp:revision>
  <dc:subject/>
  <dc:title>Δοκιμαστική παρουσίαση</dc:title>
</cp:coreProperties>
</file>